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8D6-74CB-43FA-8875-F40406E4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184-1618-4219-9DBE-B5E4CFD4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6224-9DDC-4492-96CA-A11EE2CE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9A8-8698-46FA-86BE-423362D4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630-C129-42A4-A227-A043CC38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D8A-DFA0-4F35-A7E1-0B88CD58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EED-77A6-49A0-8337-19C01AF9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8031-0A1E-4936-AB45-97494692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813-EEA8-43F7-9FF8-574E76BC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AEF-D1C4-420D-BD17-5627CDC3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C692-2C45-49EB-84D8-0530F503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102-C6A8-421C-B01D-AC2E6121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EF9D-A484-463F-94B1-35F954FFA63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회원관리 프로그램 개요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회원 관리 프로그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JSP, Bea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5249160" y="4875120"/>
            <a:ext cx="328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작성자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kenu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허광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작성일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2001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06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일 시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2001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08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일 수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반기능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회원 등록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탈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로그 인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아웃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정보 변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회원 목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리기능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등급조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26920" y="2782800"/>
            <a:ext cx="1152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og i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2638440"/>
            <a:ext cx="1224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og in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29988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227808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1630440"/>
            <a:ext cx="1152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회원가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979640" y="1483920"/>
            <a:ext cx="28872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268360" y="1268280"/>
            <a:ext cx="1366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중복검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227808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2638440"/>
            <a:ext cx="122400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정보변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3214800"/>
            <a:ext cx="122400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회원목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5291280" y="2854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2638440"/>
            <a:ext cx="1152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3790800"/>
            <a:ext cx="1224000" cy="4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og ou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291280" y="40068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3790800"/>
            <a:ext cx="1152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4365720"/>
            <a:ext cx="122400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회원탈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5291280" y="45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4365720"/>
            <a:ext cx="1152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3" name=""/>
          <p:cNvCxnSpPr>
            <a:stCxn id="46" idx="3"/>
            <a:endCxn id="60" idx="1"/>
          </p:cNvCxnSpPr>
          <p:nvPr/>
        </p:nvCxnSpPr>
        <p:spPr>
          <a:xfrm>
            <a:off x="3492000" y="2998800"/>
            <a:ext cx="575640" cy="1583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6" idx="3"/>
            <a:endCxn id="53" idx="1"/>
          </p:cNvCxnSpPr>
          <p:nvPr/>
        </p:nvCxnSpPr>
        <p:spPr>
          <a:xfrm flipV="1">
            <a:off x="3492000" y="2854080"/>
            <a:ext cx="575640" cy="144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6" idx="3"/>
            <a:endCxn id="54" idx="1"/>
          </p:cNvCxnSpPr>
          <p:nvPr/>
        </p:nvCxnSpPr>
        <p:spPr>
          <a:xfrm>
            <a:off x="3492000" y="2998440"/>
            <a:ext cx="575640" cy="43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6" idx="3"/>
            <a:endCxn id="57" idx="1"/>
          </p:cNvCxnSpPr>
          <p:nvPr/>
        </p:nvCxnSpPr>
        <p:spPr>
          <a:xfrm>
            <a:off x="3492000" y="2998800"/>
            <a:ext cx="575640" cy="1008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2268360" y="508644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5373720"/>
            <a:ext cx="1224000" cy="43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등급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5291280" y="5589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5651640" y="5373720"/>
            <a:ext cx="1152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71" name=""/>
          <p:cNvCxnSpPr>
            <a:stCxn id="46" idx="3"/>
            <a:endCxn id="68" idx="1"/>
          </p:cNvCxnSpPr>
          <p:nvPr/>
        </p:nvCxnSpPr>
        <p:spPr>
          <a:xfrm>
            <a:off x="3492000" y="2998440"/>
            <a:ext cx="575640" cy="259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620080" y="5164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관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691720" y="4654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일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388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rocess Layout #1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1979640" y="184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3780000" y="1628640"/>
            <a:ext cx="1223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가입 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77" name=""/>
          <p:cNvCxnSpPr>
            <a:stCxn id="76" idx="2"/>
            <a:endCxn id="46" idx="0"/>
          </p:cNvCxnSpPr>
          <p:nvPr/>
        </p:nvCxnSpPr>
        <p:spPr>
          <a:xfrm rot="5400000">
            <a:off x="3347640" y="1593720"/>
            <a:ext cx="578520" cy="1512000"/>
          </a:xfrm>
          <a:prstGeom prst="bentConnector3">
            <a:avLst>
              <a:gd name="adj1" fmla="val 200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388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able Layout #1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1700280"/>
            <a:ext cx="7704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DB SCHEM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CREATE TABLE MEMBER (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ID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VARCHAR(8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NOT NULL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PASSWORD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VARCHAR(8)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NOT NULL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NAME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VARCHAR(20)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NOT NULL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EMAIL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VARCHAR(40)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NOT NULL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ROLE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CHAR(1)  DEFAULT ‘D’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NOT NULL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JOINDATE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DATE  DEFAULT sysdat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ROLE: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A: MAS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B: SUBMAS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C: GOSU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D: NORM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E: BANN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5640" y="1989000"/>
            <a:ext cx="1152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회원가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8000" y="184428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1484280"/>
            <a:ext cx="13665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D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중복검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908000" y="2205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1989000"/>
            <a:ext cx="1224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가입 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838440" y="2421000"/>
            <a:ext cx="1248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Passwor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이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1125360"/>
            <a:ext cx="3168720" cy="3456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tory boar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id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4~8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자 영문소문자와 숫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password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4~8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자 이내 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 영문대소문자와 숫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email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입력 시 자동으로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id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추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id/email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중복 검사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팝업 창 이용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password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입력과 확인이 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  동일해야 전송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개의 항목 모두 필수 입력 후 전송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가입 처리 후 로그인 된 상태로 함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388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회원가입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Layout #1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3708360" y="2781360"/>
            <a:ext cx="122400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og in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89" name=""/>
          <p:cNvCxnSpPr>
            <a:stCxn id="84" idx="2"/>
            <a:endCxn id="88" idx="0"/>
          </p:cNvCxnSpPr>
          <p:nvPr/>
        </p:nvCxnSpPr>
        <p:spPr>
          <a:xfrm flipV="1" rot="10800000">
            <a:off x="4320360" y="2420640"/>
            <a:ext cx="108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55640" y="3716280"/>
            <a:ext cx="3168720" cy="24494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Java Script Func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value_check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check_id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check_pass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id_from_email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idpop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valid_id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1341360"/>
            <a:ext cx="5543280" cy="20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494080"/>
            <a:ext cx="11527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회원가입</a:t>
            </a:r>
            <a:br>
              <a:rPr sz="18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form.htm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1486080"/>
            <a:ext cx="1440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D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중복검사</a:t>
            </a:r>
            <a:br>
              <a:rPr sz="18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idCheck.js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3640" y="2494080"/>
            <a:ext cx="1439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입 처리</a:t>
            </a:r>
            <a:br>
              <a:rPr sz="18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register.js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356000" y="3573360"/>
            <a:ext cx="3672000" cy="230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Fil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form.htm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form.j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idCheck.js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register.js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388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회원가입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Layout #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6588000" y="2492280"/>
            <a:ext cx="14414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og in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처리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ogin2.js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98" name=""/>
          <p:cNvCxnSpPr>
            <a:stCxn id="94" idx="3"/>
            <a:endCxn id="97" idx="1"/>
          </p:cNvCxnSpPr>
          <p:nvPr/>
        </p:nvCxnSpPr>
        <p:spPr>
          <a:xfrm flipV="1">
            <a:off x="4643280" y="2815920"/>
            <a:ext cx="1945440" cy="2160"/>
          </a:xfrm>
          <a:prstGeom prst="bentConnector3">
            <a:avLst>
              <a:gd name="adj1" fmla="val 499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684360" y="3573360"/>
            <a:ext cx="3168360" cy="23050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Be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Member.c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MemberHandler.c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isIdExist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isEmailExist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addMember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00" name=""/>
          <p:cNvCxnSpPr>
            <a:stCxn id="92" idx="3"/>
            <a:endCxn id="94" idx="1"/>
          </p:cNvCxnSpPr>
          <p:nvPr/>
        </p:nvCxnSpPr>
        <p:spPr>
          <a:xfrm>
            <a:off x="1979640" y="2817360"/>
            <a:ext cx="12247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4211640" y="1486080"/>
            <a:ext cx="180036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MemberHandler.clas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02" name=""/>
          <p:cNvCxnSpPr>
            <a:stCxn id="93" idx="3"/>
            <a:endCxn id="101" idx="1"/>
          </p:cNvCxnSpPr>
          <p:nvPr/>
        </p:nvCxnSpPr>
        <p:spPr>
          <a:xfrm flipV="1">
            <a:off x="3924360" y="1666440"/>
            <a:ext cx="288000" cy="108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</a:ln>
        </p:spPr>
      </p:cxnSp>
      <p:sp>
        <p:nvSpPr>
          <p:cNvPr id="103" name=""/>
          <p:cNvSpPr/>
          <p:nvPr/>
        </p:nvSpPr>
        <p:spPr>
          <a:xfrm>
            <a:off x="4211640" y="1844640"/>
            <a:ext cx="180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Member.clas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1486080"/>
            <a:ext cx="11509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form.j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05" name=""/>
          <p:cNvCxnSpPr>
            <a:stCxn id="92" idx="0"/>
            <a:endCxn id="104" idx="2"/>
          </p:cNvCxnSpPr>
          <p:nvPr/>
        </p:nvCxnSpPr>
        <p:spPr>
          <a:xfrm flipV="1">
            <a:off x="1403280" y="1845720"/>
            <a:ext cx="216720" cy="64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</a:ln>
        </p:spPr>
      </p:cxnSp>
      <p:sp>
        <p:nvSpPr>
          <p:cNvPr id="106" name=""/>
          <p:cNvSpPr/>
          <p:nvPr/>
        </p:nvSpPr>
        <p:spPr>
          <a:xfrm flipV="1">
            <a:off x="1835280" y="2060640"/>
            <a:ext cx="649080" cy="43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07" name=""/>
          <p:cNvCxnSpPr>
            <a:stCxn id="94" idx="0"/>
            <a:endCxn id="101" idx="1"/>
          </p:cNvCxnSpPr>
          <p:nvPr/>
        </p:nvCxnSpPr>
        <p:spPr>
          <a:xfrm flipV="1">
            <a:off x="3924360" y="1666440"/>
            <a:ext cx="288000" cy="828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435640" y="1125360"/>
            <a:ext cx="3168720" cy="3456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tory boar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d </a:t>
            </a:r>
            <a:r>
              <a:rPr b="0" lang="zh-CN" sz="14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4~8</a:t>
            </a:r>
            <a:r>
              <a:rPr b="0" lang="zh-CN" sz="1400" spc="-1" strike="noStrike">
                <a:solidFill>
                  <a:srgbClr val="000000"/>
                </a:solidFill>
                <a:latin typeface="굴림"/>
              </a:rPr>
              <a:t>자 영문소문자와 숫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assword </a:t>
            </a:r>
            <a:r>
              <a:rPr b="0" lang="zh-CN" sz="14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4~8</a:t>
            </a:r>
            <a:r>
              <a:rPr b="0" lang="zh-CN" sz="1400" spc="-1" strike="noStrike">
                <a:solidFill>
                  <a:srgbClr val="000000"/>
                </a:solidFill>
                <a:latin typeface="굴림"/>
              </a:rPr>
              <a:t>자 이내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  영문대소문자와 숫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굴림"/>
              </a:rPr>
              <a:t>개의 항목 모두 필수 입력 후 전송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굴림"/>
              </a:rPr>
              <a:t>가입 처리 후 로그인 된 상태로 함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388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Log in Layout #1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3716280"/>
            <a:ext cx="3168720" cy="151308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Java Script Func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value_check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check_id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check_pass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205000"/>
            <a:ext cx="115236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Log in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login.htm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767160" y="2852640"/>
            <a:ext cx="124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Passwor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2205000"/>
            <a:ext cx="14418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og in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처리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ogin2.js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4" name=""/>
          <p:cNvCxnSpPr>
            <a:stCxn id="111" idx="3"/>
            <a:endCxn id="113" idx="1"/>
          </p:cNvCxnSpPr>
          <p:nvPr/>
        </p:nvCxnSpPr>
        <p:spPr>
          <a:xfrm flipV="1">
            <a:off x="1907640" y="2528640"/>
            <a:ext cx="36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755640" y="1268280"/>
            <a:ext cx="144000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입 처리</a:t>
            </a:r>
            <a:br>
              <a:rPr sz="18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register.js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5" idx="2"/>
            <a:endCxn id="113" idx="0"/>
          </p:cNvCxnSpPr>
          <p:nvPr/>
        </p:nvCxnSpPr>
        <p:spPr>
          <a:xfrm flipH="1" rot="16200000">
            <a:off x="2087640" y="1303920"/>
            <a:ext cx="289440" cy="151380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067280" y="2205000"/>
            <a:ext cx="122400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정보변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8" name=""/>
          <p:cNvCxnSpPr>
            <a:stCxn id="113" idx="3"/>
            <a:endCxn id="117" idx="1"/>
          </p:cNvCxnSpPr>
          <p:nvPr/>
        </p:nvCxnSpPr>
        <p:spPr>
          <a:xfrm>
            <a:off x="3710160" y="2528640"/>
            <a:ext cx="357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356000" y="3573360"/>
            <a:ext cx="3672000" cy="230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Fil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login.htm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form.j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login2.js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3888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Log in Layout #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573360"/>
            <a:ext cx="3168360" cy="23050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Be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Member.c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876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MemberHandler.c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doLogin(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2205000"/>
            <a:ext cx="115236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Log in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login.htm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67160" y="2852640"/>
            <a:ext cx="124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Passwor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2205000"/>
            <a:ext cx="14418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og in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처리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ogin2.js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5" name=""/>
          <p:cNvCxnSpPr>
            <a:stCxn id="122" idx="3"/>
            <a:endCxn id="124" idx="1"/>
          </p:cNvCxnSpPr>
          <p:nvPr/>
        </p:nvCxnSpPr>
        <p:spPr>
          <a:xfrm flipV="1">
            <a:off x="1907640" y="2528640"/>
            <a:ext cx="36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2050920" y="1268280"/>
            <a:ext cx="144000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입 처리</a:t>
            </a:r>
            <a:br>
              <a:rPr sz="1800"/>
            </a:b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register.js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7" name=""/>
          <p:cNvCxnSpPr>
            <a:stCxn id="126" idx="2"/>
            <a:endCxn id="124" idx="0"/>
          </p:cNvCxnSpPr>
          <p:nvPr/>
        </p:nvCxnSpPr>
        <p:spPr>
          <a:xfrm flipH="1" rot="16200000">
            <a:off x="2735280" y="1951560"/>
            <a:ext cx="289440" cy="21852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5292720" y="2205000"/>
            <a:ext cx="122400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정보변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9" name=""/>
          <p:cNvCxnSpPr>
            <a:stCxn id="124" idx="3"/>
            <a:endCxn id="128" idx="1"/>
          </p:cNvCxnSpPr>
          <p:nvPr/>
        </p:nvCxnSpPr>
        <p:spPr>
          <a:xfrm>
            <a:off x="3710160" y="2528640"/>
            <a:ext cx="158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755640" y="1341360"/>
            <a:ext cx="11509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form.j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31" name=""/>
          <p:cNvCxnSpPr>
            <a:stCxn id="122" idx="0"/>
            <a:endCxn id="130" idx="2"/>
          </p:cNvCxnSpPr>
          <p:nvPr/>
        </p:nvCxnSpPr>
        <p:spPr>
          <a:xfrm flipV="1">
            <a:off x="1331640" y="1701360"/>
            <a:ext cx="108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</a:ln>
        </p:spPr>
      </p:cxnSp>
      <p:sp>
        <p:nvSpPr>
          <p:cNvPr id="132" name=""/>
          <p:cNvSpPr/>
          <p:nvPr/>
        </p:nvSpPr>
        <p:spPr>
          <a:xfrm>
            <a:off x="4140360" y="1270080"/>
            <a:ext cx="180000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MemberHandler.clas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1628640"/>
            <a:ext cx="1800000" cy="28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Member.clas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708360" y="1484280"/>
            <a:ext cx="43344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1:36:36Z</dcterms:created>
  <dc:creator>kenu</dc:creator>
  <dc:description/>
  <dc:language>en-US</dc:language>
  <cp:lastModifiedBy>kenu</cp:lastModifiedBy>
  <dcterms:modified xsi:type="dcterms:W3CDTF">2001-12-11T09:04:28Z</dcterms:modified>
  <cp:revision>18</cp:revision>
  <dc:subject/>
  <dc:title>회원관리 프로그램 개요</dc:title>
</cp:coreProperties>
</file>